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5009-52B9-43C1-B30D-8D6B1D281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B1C2-849E-42E3-A96F-A2E02777C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AED4-F9AC-413C-A55F-3DD71197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0E19-A504-4B7D-95BC-195EA7CD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1424-2D99-4199-956B-77C9E4B35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60E1-BC16-4138-849F-5DAED301A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73BB-D987-47C7-8A84-AF987C3A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63F7-930B-4F40-86D0-CA5B3B97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8AB4-C3BA-4B9A-903E-9D0C9B61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B9A9-5E6F-41D3-8F9A-5F7D610D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59D3-A9CB-423E-AA37-6E0703C7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1496-DA8A-496B-B7B6-AC41EA46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3EF1-71D3-4516-9FB1-C66BAB36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EE5B-EA6B-424D-8691-B482091B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C253-D8C3-47E6-8ECC-13601F02E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num Sheik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76520" cy="77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Yo soy Anum. Tengo catorce años. Yo soy feliz y emocionada. Vivo en New York City. Tengo dos herman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743200" y="327672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51818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5105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1-30T18:26:55Z</dcterms:modified>
  <cp:revision>103</cp:revision>
  <dc:subject/>
  <dc:title>Profile</dc:title>
</cp:coreProperties>
</file>